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D32-9DD9-4E8C-959B-AF1DB5B9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DF3-1FFC-4268-9E77-EBEDDE9E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511-F754-49ED-9A28-263C60DD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43A-D7DB-420C-83B0-BCC45469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A5A1-AC38-41F0-BAE3-ED7B657F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689B-F5A7-4A9B-9205-E8A240C5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88CE-03FB-4A79-91F7-DBFA557B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408D-C89A-4878-9003-0BBA2D6B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6AF5-1686-43A1-8423-0C422C01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9369-6547-4DCD-BB1D-CAF86D58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4176-5523-4E4F-94BB-A2E13AC7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FCB-B568-49EB-A4A8-EFF61F00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2839-AA78-4B3A-AB49-0BA376D3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9F4C-A813-4500-92D3-6BF5D37A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50B5-D48F-4557-8F5A-2A36911B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E957-1E3D-4937-83CF-C07D1DE4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3A1A-1DC2-44C1-8A52-2E5D5255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2BA-418D-4ACD-9B95-FA8DBFB6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04C-C217-4CD3-B383-0BD86339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326-34B2-4390-BDC0-B1F4A23E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3AE-7E80-49B4-8EC7-AED41533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BD8-4435-4C21-9E58-0CA7B49F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6E1-D4A7-4F75-8569-EBA91696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D72-A27C-436C-A1A5-62858E2B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6B78-F5B8-414D-855E-86169E89F436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BD4B-C09A-43C1-90BC-08AE16BA1BE5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tmelon.com/a12Poems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tmelon.com/a12Poem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Get Going with Shortcuts and Hotkeys 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Activity 3</a:t>
            </a:r>
            <a:br>
              <a:rPr sz="4000"/>
            </a:b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hoose another poem from the websit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Follow the steps listed below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pen a new document in Microsoft Wor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Go to this website - http://www.wtmelon.com/a12Poems.htm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opy the text of the poe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Paste the text into Microsoft Word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Format the poem you choose as you lik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tudents will share the poem they chose and show the changes they mad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tudents will explain which hotkeys they used to change the tex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tudents will say which hotkey they feel is the most useful and why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at are shortcuts or hotkeys?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How do they help when using the computer?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Using the mouse is a powerful way to use the computer. Using hotkeys is as well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y use hotkey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y can help increase the speed with which you do ordinary tasks on the computer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oes each one work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ich hotkeys are the most usefu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ich hotkeys work with applications and the O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ich hotkeys work only with applications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ich hotkeys work only with the O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e will review what each hotkey does using the following website.  Follow and repeat what I do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http://www.wtmelon.com/a12Poems.htm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Activity 1</a:t>
            </a:r>
            <a:br>
              <a:rPr sz="4000"/>
            </a:b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udents will play the PowerPoint game without looking at their cheat sheet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udents will be given the opportunity to use the hotkeys in the game on their computers and practice using each of them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Activity 2</a:t>
            </a:r>
            <a:br>
              <a:rPr sz="4000"/>
            </a:b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Scavenger Hunt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Open a new document in Microsoft Word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Go to this website - 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http://www.wtmelon.com/a12Poems.html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Copy the text of the poem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Paste the text into Microsoft Word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Save it your iSquad folder as Poem 1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Find and replace tape deck with iPod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Find an replace fax number with email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Find and replace pager with PSP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Bold the first word of every line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Underline every other word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Italicize the words between the underlined words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If you make a mistake, undo it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If you undo something by mistake, redo it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Save it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Select all the text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Copy all the text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Create a new Microsoft Word document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Paste the text into the new document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Save it to you iSquad folder as Poem 2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IT</cp:lastModifiedBy>
  <dcterms:modified xsi:type="dcterms:W3CDTF">2007-01-25T23:05:26Z</dcterms:modified>
  <cp:revision>4</cp:revision>
  <dc:subject/>
  <dc:title>Workshop Title</dc:title>
</cp:coreProperties>
</file>